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76F-A62E-4739-B1EF-53178F87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7E2-6B83-4555-A0A6-E6593E0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422-7849-4023-A00A-A85D63C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78C-D1F0-4A85-BBD3-F6CC5E6B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77D-71A5-4DB1-BE89-67CBC6A3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12B-17F3-4FF9-965C-EF057B6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850-B743-4870-B455-D28E5D6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16F-622A-4FA9-B299-DC713297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E6F-B818-4845-BB19-F063B8A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3DC-5B70-4323-9A94-A89FD23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74F-70B3-44C1-90F3-EF9C63A5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457-6382-4C2F-9749-FC5C80A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C6A-B19D-47D4-8ABE-5666491E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עץ  הנדיב 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לים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-1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עם /  אוסף /  עלים /  כתרים /  יער / גזע /  מתנדנד /  ענפים  /  מחבואים /  מתעיף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הם   היו  משחקים    ב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מחב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60962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שהילד היה 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מתעיף,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הוא היה נרד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צלו של  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42861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חת  היה  ע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פע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467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ל יום הילד היה  בא  ו_ _ _ _  א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_ _ _ _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וסף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4000680" cy="373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00880" y="2266920"/>
            <a:ext cx="3543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עושה  מהם_ _ _ _ 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ומשחק במלך ה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_ _ _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59600" y="2743200"/>
            <a:ext cx="2612880" cy="382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67040" cy="428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43600" y="2975040"/>
            <a:ext cx="15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כתר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0400" y="1787400"/>
            <a:ext cx="472428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רוב  עצים  לא  רוא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0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היה מטפס  על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גז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2400" y="1523880"/>
            <a:ext cx="2797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_ _ _ _ _ _   על  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מתנדנ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ענפים</a:t>
            </a: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8196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הם היו  משחקים 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חבוא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507996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866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שהילד היה  </a:t>
            </a: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_ _ _ _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היה נרדם  בצלו  של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תעיף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2381400"/>
            <a:ext cx="42861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פע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אחת  היה  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467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ל יום הילד היה  בא  ו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אוסף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את ה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ל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409840"/>
            <a:ext cx="4762440" cy="4448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00880" y="2266920"/>
            <a:ext cx="3543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עושה  מהם  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כתרים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ומשחק במלך ה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יער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59600" y="2743200"/>
            <a:ext cx="2612880" cy="382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67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היה מטפס  על  ה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גזע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92400" y="1523880"/>
            <a:ext cx="2797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מתנדנד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על  ה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נפ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דנד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NE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368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ודניק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DN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DGE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524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33:53Z</dcterms:created>
  <dc:creator>Preferred Customer</dc:creator>
  <dc:description/>
  <dc:language>en-US</dc:language>
  <cp:lastModifiedBy>aschlezinger</cp:lastModifiedBy>
  <dcterms:modified xsi:type="dcterms:W3CDTF">2010-12-06T19:51:58Z</dcterms:modified>
  <cp:revision>3</cp:revision>
  <dc:subject/>
  <dc:title>העץ  הנדיב    מילים  1-10 </dc:title>
</cp:coreProperties>
</file>